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9.png" ContentType="image/png"/>
  <Override PartName="/ppt/media/image21.jpeg" ContentType="image/jpeg"/>
  <Override PartName="/ppt/media/camera.wav" ContentType="audio/x-wav"/>
  <Override PartName="/ppt/media/image18.png" ContentType="image/png"/>
  <Override PartName="/ppt/media/image15.jpeg" ContentType="image/jpeg"/>
  <Override PartName="/ppt/media/image13.png" ContentType="image/png"/>
  <Override PartName="/ppt/media/image16.jpeg" ContentType="image/jpeg"/>
  <Override PartName="/ppt/media/chimes.wav" ContentType="audio/x-wav"/>
  <Override PartName="/ppt/media/image5.png" ContentType="image/png"/>
  <Override PartName="/ppt/media/image10.png" ContentType="image/png"/>
  <Override PartName="/ppt/media/image8.png" ContentType="image/png"/>
  <Override PartName="/ppt/media/image1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1E18-2FA6-4EF4-BCD6-129FEA15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1D6-205D-491C-A13E-CA5AD134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5944-4C1B-46BB-ABBD-8C9F649F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D7D3-3154-43E1-B3B2-79E9EDCD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18A-AB03-41BC-B8DB-CBCCD925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00D-D8F8-419B-8855-F11FE853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91C-9B24-48DF-BC4C-2105C3BB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74C-8613-4FB2-9ED1-D5375FA2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FE2-B639-4A48-9553-C85C25FA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E241-9FEC-4827-8EA4-69B296A1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54E8-85F5-4E84-A921-E9504C0D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8E37-E6ED-493F-9954-84473866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A739-F551-4523-9ECC-5621881D2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1spiral notebook"/>
          <p:cNvPicPr/>
          <p:nvPr/>
        </p:nvPicPr>
        <p:blipFill>
          <a:blip r:embed="rId2"/>
          <a:stretch/>
        </p:blipFill>
        <p:spPr>
          <a:xfrm>
            <a:off x="0" y="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1spiral notebook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1spiral notebook"/>
          <p:cNvPicPr/>
          <p:nvPr/>
        </p:nvPicPr>
        <p:blipFill>
          <a:blip r:embed="rId4"/>
          <a:stretch/>
        </p:blipFill>
        <p:spPr>
          <a:xfrm>
            <a:off x="0" y="32004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1spiral notebook"/>
          <p:cNvPicPr/>
          <p:nvPr/>
        </p:nvPicPr>
        <p:blipFill>
          <a:blip r:embed="rId5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9" name="Text Box 11"/>
          <p:cNvSpPr/>
          <p:nvPr/>
        </p:nvSpPr>
        <p:spPr>
          <a:xfrm>
            <a:off x="974880" y="628956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2"/>
          <p:cNvSpPr/>
          <p:nvPr/>
        </p:nvSpPr>
        <p:spPr>
          <a:xfrm>
            <a:off x="422280" y="6389640"/>
            <a:ext cx="18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Script MT Bold"/>
              </a:rPr>
              <a:t>Physics I Hon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12B6-F945-44B8-A478-0EF20AB54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New Quarter 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sent an arrow into the air and it landed I know not 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, It was launched at 30 degrees with a velocity of 50m/s. So, how long was it airborne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697D-5345-4D44-AA70-F3FA2DF7A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Newton’s Third Law: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         The Law of Action and Reaction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force on an object, there is always an equal and opposite force exerted by the obj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e in pairs known as action-reaction pai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657600" y="350532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: tire pushes on roa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: road pushes on t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30541" t="0" r="36268" b="84545"/>
          <a:stretch/>
        </p:blipFill>
        <p:spPr>
          <a:xfrm>
            <a:off x="1143000" y="3505320"/>
            <a:ext cx="2133720" cy="99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2"/>
          <a:srcRect l="13274" t="22614" r="36268" b="60738"/>
          <a:stretch/>
        </p:blipFill>
        <p:spPr>
          <a:xfrm>
            <a:off x="5257800" y="4724280"/>
            <a:ext cx="2895480" cy="10670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838080" y="49528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: gas pushes on ro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: rocket pushes on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CE20-C207-4688-82B1-0D84D7E94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-Reaction Pai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rcRect l="37183" t="45216" r="34937" b="36942"/>
          <a:stretch/>
        </p:blipFill>
        <p:spPr>
          <a:xfrm>
            <a:off x="762120" y="1295280"/>
            <a:ext cx="1600200" cy="1143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2438280" y="121932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: man pulls on spring   Reaction: spring pulls on 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rcRect l="25229" t="65455" r="49553" b="4806"/>
          <a:stretch/>
        </p:blipFill>
        <p:spPr>
          <a:xfrm>
            <a:off x="7010280" y="1981080"/>
            <a:ext cx="1447920" cy="19051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2590920" y="24382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: Earth pulls on ball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tion: ball pulls on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3"/>
          <a:srcRect l="20011" t="12113" r="0" b="1575"/>
          <a:stretch/>
        </p:blipFill>
        <p:spPr>
          <a:xfrm>
            <a:off x="1219320" y="3809880"/>
            <a:ext cx="2006640" cy="2057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/>
          <p:cNvSpPr/>
          <p:nvPr/>
        </p:nvSpPr>
        <p:spPr>
          <a:xfrm>
            <a:off x="3505320" y="403848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interaction between the hammer and the stake, each exerts the same amount of force on the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1851-68B2-4679-A54A-FCD18A7D4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3886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objects at rest on a surface have pairs of forces acting on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force incline"/>
          <p:cNvPicPr/>
          <p:nvPr/>
        </p:nvPicPr>
        <p:blipFill>
          <a:blip r:embed="rId1"/>
          <a:srcRect l="53645" t="21426" r="25402" b="24202"/>
          <a:stretch/>
        </p:blipFill>
        <p:spPr>
          <a:xfrm>
            <a:off x="4876920" y="380880"/>
            <a:ext cx="28191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3A5D-C195-4E24-85C9-4FA86B11E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rce exerted against the recoiling rifle is just as great as the force that drives the bullet.  Why, then, does the bullet accelerate more than the rifle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2942" t="6285" r="984" b="14183"/>
          <a:stretch/>
        </p:blipFill>
        <p:spPr>
          <a:xfrm>
            <a:off x="609480" y="2819520"/>
            <a:ext cx="8153640" cy="2286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6CFC-9252-4749-8105-0D467CBF4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Script MT Bold"/>
              </a:rPr>
              <a:t>(2)Dynamic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Weight vs M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AD8A-0BB7-4301-BB76-DDD2DACE0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Mass vs 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antity of matter in an object…the amount of stuff…measured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ilo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measure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ert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n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t (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 of the gravitational force on an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orce            </a:t>
            </a: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ff505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 = m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easured in Newtons (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9BEB-BB85-4D0C-A908-14A37FF9D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Mass vs 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4876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vil in outer space, between the Earth and Moon, for example, may be weightless, but it is not massl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14440" y="4800600"/>
            <a:ext cx="4724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stronaut in space finds it is just as difficult to shake the "weightless" anvil as it would be on Eart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13328" t="6286" r="24439" b="11253"/>
          <a:stretch/>
        </p:blipFill>
        <p:spPr>
          <a:xfrm>
            <a:off x="1143000" y="411480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rcRect l="14066" t="4797" r="10855" b="11192"/>
          <a:stretch/>
        </p:blipFill>
        <p:spPr>
          <a:xfrm>
            <a:off x="5867280" y="2057400"/>
            <a:ext cx="2438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9BE1-0D66-49E5-9AEA-21C4E3CEF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wo Kinds of M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Gravitational M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e mass measured by a beam balance or spring scale – measured from grav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nertial M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e mass of an object is the ratio of the net force exerted on the object and its accel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880E-FFA9-4BA8-A98A-6C193F6EB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tio of weight (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mass (m) is the same for all objects in the same locality; hence, their accelerations are the same in the absence of air resi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rcRect l="11253" t="1835" r="6252" b="21157"/>
          <a:stretch/>
        </p:blipFill>
        <p:spPr>
          <a:xfrm>
            <a:off x="2666880" y="2286000"/>
            <a:ext cx="388620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FA62-4764-44BC-A522-ED1035F35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Script MT Bold"/>
              </a:rPr>
              <a:t>(3)Dynamic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Free Body Diagram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Net Fo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Equilibr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85EC-00E7-477B-9B7A-885D63C0E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Script MT Bold"/>
              </a:rPr>
              <a:t>(1)Dynamic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Newton’s Laws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D73A-AFF1-433C-A638-3A0EF6A64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orces Come in Many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forces can be calculated using F = 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sure to identify your for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t 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d 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Opposing 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rictional 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Ten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ift 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Drag 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5CFC-3067-47F9-BC9D-C0D9B712F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ree Body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all of the forces on an object at a given time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n abstract form (rectangle, circle, etc.) to represent the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indicated by arrow pointing in the direction of the fo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ngth of the arrow is relative to the magnitude of the fo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4131-07B8-4285-B0FC-F111DD873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4444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BD of an object moving across a flat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FBD"/>
          <p:cNvPicPr/>
          <p:nvPr/>
        </p:nvPicPr>
        <p:blipFill>
          <a:blip r:embed="rId1"/>
          <a:srcRect l="14499" t="0" r="14499" b="25922"/>
          <a:stretch/>
        </p:blipFill>
        <p:spPr>
          <a:xfrm>
            <a:off x="1219320" y="1447920"/>
            <a:ext cx="7010280" cy="41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5C44-FC5F-46BC-BFEF-E80FE61BA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Fo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t force is the sum of all forces acting on an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wo forces act on an object the forces are cumulative (they are added togeth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 force is called a resultant and can be calculated using geome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7B1B-9060-4AF6-9E25-51B807FC0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Net Force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t force is the sum of all the forces acting on an object in a given 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force on wall"/>
          <p:cNvPicPr/>
          <p:nvPr/>
        </p:nvPicPr>
        <p:blipFill>
          <a:blip r:embed="rId1"/>
          <a:srcRect l="0" t="0" r="10230" b="14512"/>
          <a:stretch/>
        </p:blipFill>
        <p:spPr>
          <a:xfrm>
            <a:off x="3733920" y="1371600"/>
            <a:ext cx="522288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7668-2B82-4904-A435-2DD492E35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tillery+f02-10"/>
          <p:cNvPicPr/>
          <p:nvPr/>
        </p:nvPicPr>
        <p:blipFill>
          <a:blip r:embed="rId1"/>
          <a:srcRect l="0" t="17502" r="0" b="19995"/>
          <a:stretch/>
        </p:blipFill>
        <p:spPr>
          <a:xfrm>
            <a:off x="2819520" y="4343400"/>
            <a:ext cx="5333760" cy="21859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Fo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te and the direction of movement of this ship are determined by a combination of direction and magnitude of force from each of the tugboat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direction are the two tugboats pushing?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tugboat by the numbers is pushing with a greater force and the back tugboat is keeping the ship from moving, what will happ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A500-7451-41DB-8B1A-A839C5028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Forces are Vectors so Directions are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431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5207040" y="3116160"/>
            <a:ext cx="1368720" cy="1067040"/>
            <a:chOff x="5207040" y="3116160"/>
            <a:chExt cx="1368720" cy="1067040"/>
          </a:xfrm>
        </p:grpSpPr>
        <p:sp>
          <p:nvSpPr>
            <p:cNvPr id="162" name="Line 5"/>
            <p:cNvSpPr/>
            <p:nvPr/>
          </p:nvSpPr>
          <p:spPr>
            <a:xfrm flipV="1">
              <a:off x="5207040" y="3116160"/>
              <a:ext cx="0" cy="10670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5319000" y="3317760"/>
              <a:ext cx="125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Force #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7"/>
          <p:cNvGrpSpPr/>
          <p:nvPr/>
        </p:nvGrpSpPr>
        <p:grpSpPr>
          <a:xfrm>
            <a:off x="5203800" y="4273560"/>
            <a:ext cx="1371960" cy="1066680"/>
            <a:chOff x="5203800" y="4273560"/>
            <a:chExt cx="1371960" cy="1066680"/>
          </a:xfrm>
        </p:grpSpPr>
        <p:sp>
          <p:nvSpPr>
            <p:cNvPr id="165" name="Line 8"/>
            <p:cNvSpPr/>
            <p:nvPr/>
          </p:nvSpPr>
          <p:spPr>
            <a:xfrm>
              <a:off x="5203800" y="4273560"/>
              <a:ext cx="0" cy="10666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5319000" y="4537080"/>
              <a:ext cx="125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Force #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Oval 10"/>
          <p:cNvSpPr/>
          <p:nvPr/>
        </p:nvSpPr>
        <p:spPr>
          <a:xfrm>
            <a:off x="1905120" y="39625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431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1"/>
          <p:cNvGrpSpPr/>
          <p:nvPr/>
        </p:nvGrpSpPr>
        <p:grpSpPr>
          <a:xfrm>
            <a:off x="2362320" y="2895120"/>
            <a:ext cx="1368720" cy="1066680"/>
            <a:chOff x="2362320" y="2895120"/>
            <a:chExt cx="1368720" cy="1066680"/>
          </a:xfrm>
        </p:grpSpPr>
        <p:sp>
          <p:nvSpPr>
            <p:cNvPr id="169" name="Line 12"/>
            <p:cNvSpPr/>
            <p:nvPr/>
          </p:nvSpPr>
          <p:spPr>
            <a:xfrm flipV="1">
              <a:off x="2362320" y="2895120"/>
              <a:ext cx="0" cy="10666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2474280" y="3097080"/>
              <a:ext cx="125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Force #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4"/>
          <p:cNvGrpSpPr/>
          <p:nvPr/>
        </p:nvGrpSpPr>
        <p:grpSpPr>
          <a:xfrm>
            <a:off x="763200" y="2895480"/>
            <a:ext cx="1319760" cy="1067040"/>
            <a:chOff x="763200" y="2895480"/>
            <a:chExt cx="1319760" cy="1067040"/>
          </a:xfrm>
        </p:grpSpPr>
        <p:sp>
          <p:nvSpPr>
            <p:cNvPr id="172" name="Line 15"/>
            <p:cNvSpPr/>
            <p:nvPr/>
          </p:nvSpPr>
          <p:spPr>
            <a:xfrm flipV="1">
              <a:off x="2082960" y="2895480"/>
              <a:ext cx="0" cy="10670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6"/>
            <p:cNvSpPr/>
            <p:nvPr/>
          </p:nvSpPr>
          <p:spPr>
            <a:xfrm>
              <a:off x="763200" y="3114720"/>
              <a:ext cx="125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Force #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7"/>
          <p:cNvGrpSpPr/>
          <p:nvPr/>
        </p:nvGrpSpPr>
        <p:grpSpPr>
          <a:xfrm>
            <a:off x="2209680" y="1828440"/>
            <a:ext cx="1713240" cy="2133720"/>
            <a:chOff x="2209680" y="1828440"/>
            <a:chExt cx="1713240" cy="2133720"/>
          </a:xfrm>
        </p:grpSpPr>
        <p:sp>
          <p:nvSpPr>
            <p:cNvPr id="175" name="Line 18"/>
            <p:cNvSpPr/>
            <p:nvPr/>
          </p:nvSpPr>
          <p:spPr>
            <a:xfrm flipV="1">
              <a:off x="2209680" y="1828440"/>
              <a:ext cx="0" cy="2133720"/>
            </a:xfrm>
            <a:prstGeom prst="line">
              <a:avLst/>
            </a:prstGeom>
            <a:ln w="38160">
              <a:solidFill>
                <a:srgbClr val="cc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9"/>
            <p:cNvSpPr/>
            <p:nvPr/>
          </p:nvSpPr>
          <p:spPr>
            <a:xfrm>
              <a:off x="2250360" y="1997280"/>
              <a:ext cx="16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otal For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20"/>
          <p:cNvSpPr/>
          <p:nvPr/>
        </p:nvSpPr>
        <p:spPr>
          <a:xfrm>
            <a:off x="5622120" y="392760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otal Force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WordArt 21"/>
          <p:cNvSpPr txBox="1"/>
          <p:nvPr/>
        </p:nvSpPr>
        <p:spPr>
          <a:xfrm>
            <a:off x="762120" y="4724280"/>
            <a:ext cx="2895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rces Ad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9" name="WordArt 22"/>
          <p:cNvSpPr txBox="1"/>
          <p:nvPr/>
        </p:nvSpPr>
        <p:spPr>
          <a:xfrm>
            <a:off x="4648320" y="5334120"/>
            <a:ext cx="33750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rces Cancel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F046-89C7-4D30-B79F-AF7A708A2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When two parallel forces are acting on the cart in the same direction, the net force is the two forces added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5" descr="tillery+f02-11"/>
          <p:cNvPicPr/>
          <p:nvPr/>
        </p:nvPicPr>
        <p:blipFill>
          <a:blip r:embed="rId1"/>
          <a:srcRect l="0" t="0" r="0" b="66673"/>
          <a:stretch/>
        </p:blipFill>
        <p:spPr>
          <a:xfrm>
            <a:off x="914400" y="2590920"/>
            <a:ext cx="7402680" cy="2286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1523880" y="2514600"/>
            <a:ext cx="1219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N 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447920" y="3124080"/>
            <a:ext cx="121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N 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7162920" y="2514600"/>
            <a:ext cx="121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N 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5E0E-D0D7-4830-86A7-355DDB109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 When two forces are opposite and of equal magnitude, the net force is zero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" descr="tillery+f02-11"/>
          <p:cNvPicPr/>
          <p:nvPr/>
        </p:nvPicPr>
        <p:blipFill>
          <a:blip r:embed="rId1"/>
          <a:srcRect l="0" t="31486" r="0" b="31486"/>
          <a:stretch/>
        </p:blipFill>
        <p:spPr>
          <a:xfrm>
            <a:off x="685800" y="2209680"/>
            <a:ext cx="7935840" cy="28958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1447920" y="3124080"/>
            <a:ext cx="121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N 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447920" y="2438280"/>
            <a:ext cx="121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N 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7620120" y="2438280"/>
            <a:ext cx="121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BE2B-042E-46C5-83CF-D17125EBC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) When two parallel forces are not of equal magnitude, the net force is the difference in the direction of the larger force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tillery+f02-11"/>
          <p:cNvPicPr/>
          <p:nvPr/>
        </p:nvPicPr>
        <p:blipFill>
          <a:blip r:embed="rId1"/>
          <a:srcRect l="0" t="66673" r="0" b="0"/>
          <a:stretch/>
        </p:blipFill>
        <p:spPr>
          <a:xfrm>
            <a:off x="685800" y="1905120"/>
            <a:ext cx="7935840" cy="33526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1295280" y="3048120"/>
            <a:ext cx="1219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N 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371600" y="2209680"/>
            <a:ext cx="1219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N 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7391520" y="2209680"/>
            <a:ext cx="121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N 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C975-2D05-44FC-8B74-E79CFD83D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Dyna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6629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s is the study of forces and the resulting mo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, we study acceleration and its cause…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1640" y="3048120"/>
            <a:ext cx="42670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gency of 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he velo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vector qua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d in Newton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8D2F-0E87-4264-BE38-B231D6432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Net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3" descr="Mechanics%20Friction%20Big"/>
          <p:cNvPicPr/>
          <p:nvPr/>
        </p:nvPicPr>
        <p:blipFill>
          <a:blip r:embed="rId1"/>
          <a:srcRect l="19736" t="3971" r="0" b="0"/>
          <a:stretch/>
        </p:blipFill>
        <p:spPr>
          <a:xfrm>
            <a:off x="2057400" y="1676520"/>
            <a:ext cx="5578560" cy="3687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4"/>
          <p:cNvGrpSpPr/>
          <p:nvPr/>
        </p:nvGrpSpPr>
        <p:grpSpPr>
          <a:xfrm>
            <a:off x="2665440" y="2666880"/>
            <a:ext cx="2000520" cy="703800"/>
            <a:chOff x="2665440" y="2666880"/>
            <a:chExt cx="2000520" cy="703800"/>
          </a:xfrm>
        </p:grpSpPr>
        <p:sp>
          <p:nvSpPr>
            <p:cNvPr id="202" name="Line 5"/>
            <p:cNvSpPr/>
            <p:nvPr/>
          </p:nvSpPr>
          <p:spPr>
            <a:xfrm>
              <a:off x="3048120" y="304776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6"/>
            <p:cNvSpPr/>
            <p:nvPr/>
          </p:nvSpPr>
          <p:spPr>
            <a:xfrm>
              <a:off x="2665440" y="2666880"/>
              <a:ext cx="2000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orce on pers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y b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7"/>
          <p:cNvGrpSpPr/>
          <p:nvPr/>
        </p:nvGrpSpPr>
        <p:grpSpPr>
          <a:xfrm>
            <a:off x="1748160" y="5334120"/>
            <a:ext cx="2520000" cy="398880"/>
            <a:chOff x="1748160" y="5334120"/>
            <a:chExt cx="2520000" cy="398880"/>
          </a:xfrm>
        </p:grpSpPr>
        <p:sp>
          <p:nvSpPr>
            <p:cNvPr id="205" name="Line 8"/>
            <p:cNvSpPr/>
            <p:nvPr/>
          </p:nvSpPr>
          <p:spPr>
            <a:xfrm flipH="1">
              <a:off x="2209680" y="5715000"/>
              <a:ext cx="17524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9"/>
            <p:cNvSpPr/>
            <p:nvPr/>
          </p:nvSpPr>
          <p:spPr>
            <a:xfrm>
              <a:off x="1748160" y="5334120"/>
              <a:ext cx="25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orce on floor by b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10"/>
          <p:cNvGrpSpPr/>
          <p:nvPr/>
        </p:nvGrpSpPr>
        <p:grpSpPr>
          <a:xfrm>
            <a:off x="4495680" y="5257800"/>
            <a:ext cx="1815120" cy="703800"/>
            <a:chOff x="4495680" y="5257800"/>
            <a:chExt cx="1815120" cy="703800"/>
          </a:xfrm>
        </p:grpSpPr>
        <p:sp>
          <p:nvSpPr>
            <p:cNvPr id="208" name="Line 11"/>
            <p:cNvSpPr/>
            <p:nvPr/>
          </p:nvSpPr>
          <p:spPr>
            <a:xfrm>
              <a:off x="4495680" y="5638680"/>
              <a:ext cx="15238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12"/>
            <p:cNvSpPr/>
            <p:nvPr/>
          </p:nvSpPr>
          <p:spPr>
            <a:xfrm>
              <a:off x="4568040" y="5257800"/>
              <a:ext cx="1742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orce on b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y flo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Text Box 13"/>
          <p:cNvSpPr/>
          <p:nvPr/>
        </p:nvSpPr>
        <p:spPr>
          <a:xfrm>
            <a:off x="824040" y="5867280"/>
            <a:ext cx="75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’s the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m of all the forces that determines the accel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2057400" y="2666880"/>
            <a:ext cx="6094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15"/>
          <p:cNvGrpSpPr/>
          <p:nvPr/>
        </p:nvGrpSpPr>
        <p:grpSpPr>
          <a:xfrm>
            <a:off x="4797360" y="2895480"/>
            <a:ext cx="1954800" cy="1054800"/>
            <a:chOff x="4797360" y="2895480"/>
            <a:chExt cx="1954800" cy="1054800"/>
          </a:xfrm>
        </p:grpSpPr>
        <p:sp>
          <p:nvSpPr>
            <p:cNvPr id="213" name="Line 16"/>
            <p:cNvSpPr/>
            <p:nvPr/>
          </p:nvSpPr>
          <p:spPr>
            <a:xfrm flipH="1">
              <a:off x="5130360" y="361620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5648400" y="28954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4797360" y="3246480"/>
              <a:ext cx="195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orce on bo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y per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D700-4DF1-4523-A2A6-80D00231A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et forces on an object equal zero, the object is in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 force of zero mean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o accel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y be at 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it may be moving at a constant velo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585D-E6CA-4B21-A7B9-B4476CEB8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orces in a Singl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orizontal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 applied opposes the force of fri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4400" spc="-1" strike="noStrike" baseline="-14000">
                <a:solidFill>
                  <a:srgbClr val="ff0000"/>
                </a:solidFill>
                <a:latin typeface="Times New Roman"/>
              </a:rPr>
              <a:t>NET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= F</a:t>
            </a:r>
            <a:r>
              <a:rPr b="0" lang="en-US" sz="4400" spc="-1" strike="noStrike" baseline="-14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+ F</a:t>
            </a:r>
            <a:r>
              <a:rPr b="0" lang="en-US" sz="4400" spc="-1" strike="noStrike" baseline="-14000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Ver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 applied opposes the force of gravity, that is, the we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4400" spc="-1" strike="noStrike" baseline="-14000">
                <a:solidFill>
                  <a:srgbClr val="ff0000"/>
                </a:solidFill>
                <a:latin typeface="Times New Roman"/>
              </a:rPr>
              <a:t>NET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= F</a:t>
            </a:r>
            <a:r>
              <a:rPr b="0" lang="en-US" sz="4400" spc="-1" strike="noStrike" baseline="-14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+ F</a:t>
            </a:r>
            <a:r>
              <a:rPr b="0" lang="en-US" sz="4400" spc="-1" strike="noStrike" baseline="-14000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8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3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8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1DAA-E859-4365-9E36-587CBD724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Normal Force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rmal force (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n object supported by a surface is the component of the supporting force that is perpendicular to the 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object is sitting on a level surface then the normal force is always equal and opposite of the weight of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forcess.gif (1105 bytes)"/>
          <p:cNvPicPr/>
          <p:nvPr/>
        </p:nvPicPr>
        <p:blipFill>
          <a:blip r:embed="rId1"/>
          <a:srcRect l="14908" t="6108" r="0" b="4080"/>
          <a:stretch/>
        </p:blipFill>
        <p:spPr>
          <a:xfrm>
            <a:off x="5791320" y="1905120"/>
            <a:ext cx="27669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314A-56CD-4C5D-A82B-90A45DC25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time two surfaces are in contact there will be a normal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force is always perpendicular to the surfaces s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d Normal is often synonymous with the word perpendicul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A644-FA05-42B9-A6AC-2C4A3BA72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Script MT Bold"/>
              </a:rPr>
              <a:t>(4)Dynamic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Friction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Hallow’s 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ghter than air balloon is accelerating upwards at 2m/s/s. Its total mass is 2000 kg. What must be the net for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us: What is the lift for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2454-322A-4DCF-8BED-9F451562D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5591-04C1-4871-98E1-16842E919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force that opposes the motion of two surfaces in conta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tatic Fric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ction that opposes the start of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ction from 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liding Fri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ction of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ction from constant velo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frictional forces always greater than sliding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73AD-D182-4CD8-BB48-8972B5726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014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he force of friction depends on two thing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ature of the surfaces in contact…the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oefficient of friction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orce pushing the surfaces together…the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normal fo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8000" spc="-1" strike="noStrike" baseline="-14000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8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8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i="1" lang="en-US" sz="8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8000" spc="-1" strike="noStrike" baseline="-14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F444-CCA8-4113-8EF4-ECAA963D7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Happening With F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eler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celer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ilibri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E974-391A-45A2-A1CB-6E7BAD197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rcRect l="31509" t="1849" r="3013" b="67392"/>
          <a:stretch/>
        </p:blipFill>
        <p:spPr>
          <a:xfrm>
            <a:off x="609480" y="2209680"/>
            <a:ext cx="548640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Newton’s First Law:  The Law of Inert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rtia is the tendency of a body in motion to stay in motion and a body at rest to stay at 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2362320" y="3581280"/>
          <a:ext cx="190476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3581280"/>
                    <a:ext cx="1904760" cy="2819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pSp>
        <p:nvGrpSpPr>
          <p:cNvPr id="63" name="Group 12"/>
          <p:cNvGrpSpPr/>
          <p:nvPr/>
        </p:nvGrpSpPr>
        <p:grpSpPr>
          <a:xfrm>
            <a:off x="4267080" y="3276720"/>
            <a:ext cx="4648320" cy="2743200"/>
            <a:chOff x="4267080" y="3276720"/>
            <a:chExt cx="4648320" cy="2743200"/>
          </a:xfrm>
        </p:grpSpPr>
        <p:pic>
          <p:nvPicPr>
            <p:cNvPr id="64" name="Picture 7" descr=""/>
            <p:cNvPicPr/>
            <p:nvPr/>
          </p:nvPicPr>
          <p:blipFill>
            <a:blip r:embed="rId4"/>
            <a:srcRect l="36960" t="34980" r="7558" b="13187"/>
            <a:stretch/>
          </p:blipFill>
          <p:spPr>
            <a:xfrm>
              <a:off x="4267080" y="3276720"/>
              <a:ext cx="464832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9"/>
            <p:cNvSpPr/>
            <p:nvPr/>
          </p:nvSpPr>
          <p:spPr>
            <a:xfrm>
              <a:off x="4267080" y="5029200"/>
              <a:ext cx="3429000" cy="990720"/>
            </a:xfrm>
            <a:prstGeom prst="rect">
              <a:avLst/>
            </a:prstGeom>
            <a:solidFill>
              <a:srgbClr val="fef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6" name="Object 5"/>
          <p:cNvGraphicFramePr/>
          <p:nvPr/>
        </p:nvGraphicFramePr>
        <p:xfrm>
          <a:off x="4114800" y="5029200"/>
          <a:ext cx="1166760" cy="165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029200"/>
                    <a:ext cx="1166760" cy="1657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CF9B-BC2F-4D9C-B4C1-9C3BF42DD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Script MT Bold"/>
              </a:rPr>
              <a:t>(4)Dynamic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Forces on an Inclined Pl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B9F5-F309-4029-B881-3475B66B3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hat is an Inclined Pla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lined plane is a simple machine design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the amount of force required to do a given quantity of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extending the distance over which the force is exe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4" descr="inclined plane"/>
          <p:cNvPicPr/>
          <p:nvPr/>
        </p:nvPicPr>
        <p:blipFill>
          <a:blip r:embed="rId1"/>
          <a:stretch/>
        </p:blipFill>
        <p:spPr>
          <a:xfrm>
            <a:off x="2514600" y="3200400"/>
            <a:ext cx="449568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EE50-0CE9-4E6B-91CD-ABE1F5863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4" descr="components on incline"/>
          <p:cNvPicPr/>
          <p:nvPr/>
        </p:nvPicPr>
        <p:blipFill>
          <a:blip r:embed="rId1"/>
          <a:stretch/>
        </p:blipFill>
        <p:spPr>
          <a:xfrm>
            <a:off x="533520" y="914400"/>
            <a:ext cx="815328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8A14-7042-473E-9B28-39FC84E71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ert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rtia is the property of matter to resist change in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s is the measure of inert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s is measured in kilograms (k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nd when will mass change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F4FE-C251-4051-8672-DDDA0F37A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7"/>
          <p:cNvGrpSpPr/>
          <p:nvPr/>
        </p:nvGrpSpPr>
        <p:grpSpPr>
          <a:xfrm>
            <a:off x="685800" y="3276720"/>
            <a:ext cx="5029200" cy="3114720"/>
            <a:chOff x="685800" y="3276720"/>
            <a:chExt cx="5029200" cy="3114720"/>
          </a:xfrm>
        </p:grpSpPr>
        <p:pic>
          <p:nvPicPr>
            <p:cNvPr id="73" name="Picture 5" descr=""/>
            <p:cNvPicPr/>
            <p:nvPr/>
          </p:nvPicPr>
          <p:blipFill>
            <a:blip r:embed="rId1"/>
            <a:srcRect l="6036" t="31217" r="22110" b="1849"/>
            <a:stretch/>
          </p:blipFill>
          <p:spPr>
            <a:xfrm>
              <a:off x="685800" y="3276720"/>
              <a:ext cx="5029200" cy="31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6"/>
            <p:cNvSpPr/>
            <p:nvPr/>
          </p:nvSpPr>
          <p:spPr>
            <a:xfrm>
              <a:off x="1704960" y="3276720"/>
              <a:ext cx="4010040" cy="1692000"/>
            </a:xfrm>
            <a:prstGeom prst="rect">
              <a:avLst/>
            </a:prstGeom>
            <a:solidFill>
              <a:srgbClr val="fef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Newton’s First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520" y="1066680"/>
            <a:ext cx="71625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n object is at rest or at constant velocity, its acceleration is ze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 these conditions the object is said to be in a state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quilibrium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in the state of equilibrium has no net forces acting up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t force (unbalanced force) is needed to change the state of motion of an obj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DDF0-6432-4787-80B0-FBC3810F8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Newton’s Second Law: 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                             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The Law of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 forc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uses an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celeration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ce is directly proportional to accel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48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esulting acceleration is inversely proportional to the mass of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1/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Times New Roman"/>
              </a:rPr>
              <a:t>F = ma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ingle most important equation in Physic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5243-EDEA-4C33-B9C3-110478008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Newton’s Second Law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wt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is the unit of fo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N = k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m/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1.00 kg mass that undergoes a 1.00 m/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cceleration is experiencing a force of 1.00 New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29D8-EF26-4181-A521-CC4C0595A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09480" y="1676520"/>
            <a:ext cx="3962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ce as much force produces twice as much accel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85800" y="37339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ce the force on twice the mass gives the same accel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14440" y="22860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 of h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lerates the b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4724280" y="16002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 force accelerates 2 bricks 1/2 as m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724280" y="37339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bricks, 1/3 as much accel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1"/>
          <a:srcRect l="19183" t="45250" r="15624" b="39292"/>
          <a:stretch/>
        </p:blipFill>
        <p:spPr>
          <a:xfrm>
            <a:off x="1143000" y="2514600"/>
            <a:ext cx="2590920" cy="990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2"/>
          <a:srcRect l="19920" t="50008" r="16766" b="36918"/>
          <a:stretch/>
        </p:blipFill>
        <p:spPr>
          <a:xfrm>
            <a:off x="5410080" y="2514600"/>
            <a:ext cx="2667240" cy="838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"/>
          <p:cNvPicPr/>
          <p:nvPr/>
        </p:nvPicPr>
        <p:blipFill>
          <a:blip r:embed="rId3"/>
          <a:srcRect l="15346" t="73817" r="17542" b="7150"/>
          <a:stretch/>
        </p:blipFill>
        <p:spPr>
          <a:xfrm>
            <a:off x="1143000" y="4952880"/>
            <a:ext cx="2666880" cy="1219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"/>
          <p:cNvPicPr/>
          <p:nvPr/>
        </p:nvPicPr>
        <p:blipFill>
          <a:blip r:embed="rId4"/>
          <a:srcRect l="18102" t="75019" r="16766" b="5961"/>
          <a:stretch/>
        </p:blipFill>
        <p:spPr>
          <a:xfrm>
            <a:off x="5410080" y="4876920"/>
            <a:ext cx="2743200" cy="1218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"/>
          <p:cNvPicPr/>
          <p:nvPr/>
        </p:nvPicPr>
        <p:blipFill>
          <a:blip r:embed="rId5"/>
          <a:srcRect l="15346" t="16667" r="19461" b="69067"/>
          <a:stretch/>
        </p:blipFill>
        <p:spPr>
          <a:xfrm>
            <a:off x="685800" y="228600"/>
            <a:ext cx="33526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22:07:05Z</dcterms:created>
  <dc:creator>Linda Legare</dc:creator>
  <dc:description/>
  <dc:language>en-US</dc:language>
  <cp:lastModifiedBy>gandella</cp:lastModifiedBy>
  <dcterms:modified xsi:type="dcterms:W3CDTF">2009-10-29T11:23:11Z</dcterms:modified>
  <cp:revision>134</cp:revision>
  <dc:subject/>
  <dc:title>Force</dc:title>
</cp:coreProperties>
</file>